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0D1-619A-4D1B-9C17-8121DAF5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4BD-78FB-4C92-923C-4A2B1F73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E93D-0351-4D73-BDB4-643CD0D3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BFC-53EE-4226-B3FC-96D5CD7F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A1F5-3068-42D9-A0BE-72B11FC6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97F3-DD7B-48BE-AA52-4EB208C7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F37-9A9E-4B24-B297-1AF79FE7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995C-65DB-411B-BBF5-B72793D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D471-6666-4CE2-9D76-00F9146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0A31-E057-4F83-9AC3-ED1FAC6D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954D-9A73-4E7D-9050-EF5140E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207-29CF-40FF-8EAE-527A06C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AC6C-F66E-4E6D-9AFA-00D8E72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75CB-E443-47B4-9186-8AB9A5F4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5594-B957-40D9-BC36-1DD2B58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AAD7-9E74-42BC-A0EE-ABA1086C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497F-980D-4E5E-99E8-3CE79CF0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86B-5A93-42F5-A8DC-2A5A3AA2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5B2C-D90D-425D-9CBA-8A9D5BC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3089-5A5E-46A8-B339-6B587934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3B74-B855-4973-9A44-628B72F2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8A0-A4D4-4FE3-BC02-267B2093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342-3916-47CA-AC6C-D60CF5D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82C-CA6B-4338-9C8B-9B723AD5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62A6-32E0-4E7B-A871-1B82B2DE2B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038-FF84-4518-8B18-7F9FBADF8B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6758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Page 37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Avancemos 3</a:t>
            </a:r>
            <a:br>
              <a:rPr sz="4400"/>
            </a:b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z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almor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omen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ru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empez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almor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omen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ru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emp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¿Quién 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organi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z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ó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la excursión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Who organized the trip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Yo 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organi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c</a:t>
            </a: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é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la excursión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I organized the trip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You use the preterite to talk about things that happened in the past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Here are the regular preterite forms of verbs ending in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–a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-e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, and </a:t>
            </a: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–ir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CAMINAR – to walk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é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amin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a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COMER – to eat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í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com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e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VIVIR – to live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í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ó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mo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steis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viv</a:t>
            </a:r>
            <a:r>
              <a:rPr b="0" lang="es-ES" sz="4400" spc="-1" strike="noStrike">
                <a:solidFill>
                  <a:srgbClr val="f7d47d"/>
                </a:solidFill>
                <a:latin typeface="Arial"/>
              </a:rPr>
              <a:t>ieron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500" spc="-1" strike="noStrike">
                <a:solidFill>
                  <a:srgbClr val="f7d47d"/>
                </a:solidFill>
                <a:latin typeface="Arial"/>
              </a:rPr>
              <a:t>Preterite Verbs</a:t>
            </a:r>
            <a:endParaRPr b="0" lang="en-US" sz="55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Escal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é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una montaña hoy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I climbed a mountian today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2f1311"/>
                </a:solidFill>
                <a:latin typeface="Arial"/>
              </a:rPr>
              <a:t>Sal</a:t>
            </a:r>
            <a:r>
              <a:rPr b="1" lang="es-ES" sz="4400" spc="-1" strike="noStrike" u="sng">
                <a:solidFill>
                  <a:srgbClr val="2f1311"/>
                </a:solidFill>
                <a:uFillTx/>
                <a:latin typeface="Arial"/>
              </a:rPr>
              <a:t>imos</a:t>
            </a:r>
            <a:r>
              <a:rPr b="0" lang="es-ES" sz="4400" spc="-1" strike="noStrike">
                <a:solidFill>
                  <a:srgbClr val="2f1311"/>
                </a:solidFill>
                <a:latin typeface="Arial"/>
              </a:rPr>
              <a:t> de la casa a las cinco de la mañana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2f1311"/>
                </a:solidFill>
                <a:latin typeface="Arial"/>
              </a:rPr>
              <a:t>We left the house at five o´clock in the morning.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gar, -car, -z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Remember that verbs ending in </a:t>
            </a:r>
            <a:r>
              <a:rPr b="0" i="1" lang="es-ES" sz="3200" spc="-1" strike="noStrike">
                <a:solidFill>
                  <a:srgbClr val="2f1311"/>
                </a:solidFill>
                <a:latin typeface="Arial"/>
              </a:rPr>
              <a:t>–gar, -car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, and </a:t>
            </a:r>
            <a:r>
              <a:rPr b="0" i="1" lang="es-ES" sz="3200" spc="-1" strike="noStrike">
                <a:solidFill>
                  <a:srgbClr val="2f1311"/>
                </a:solidFill>
                <a:latin typeface="Arial"/>
              </a:rPr>
              <a:t>–zar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 have a spelling change </a:t>
            </a:r>
            <a:r>
              <a:rPr b="0" lang="es-ES" sz="3200" spc="-1" strike="noStrike" u="sng">
                <a:solidFill>
                  <a:srgbClr val="2f1311"/>
                </a:solidFill>
                <a:uFillTx/>
                <a:latin typeface="Arial"/>
              </a:rPr>
              <a:t>ONLY in the yo form</a:t>
            </a: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 in the preteri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The other forms of these verbs are regular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>
            <a:off x="2971800" y="5257800"/>
            <a:ext cx="4191120" cy="0"/>
          </a:xfrm>
          <a:prstGeom prst="line">
            <a:avLst/>
          </a:prstGeom>
          <a:ln w="7632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car Verbs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bus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cho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practi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sac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bus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cho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practi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sa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q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-gar Verb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investi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nave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ju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llegar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investi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nav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ju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Yo lle</a:t>
            </a:r>
            <a:r>
              <a:rPr b="0" lang="es-ES" sz="4000" spc="-1" strike="noStrike" u="sng">
                <a:solidFill>
                  <a:srgbClr val="2f1311"/>
                </a:solidFill>
                <a:uFillTx/>
                <a:latin typeface="Arial"/>
              </a:rPr>
              <a:t>gu</a:t>
            </a:r>
            <a:r>
              <a:rPr b="0" lang="es-ES" sz="4000" spc="-1" strike="noStrike">
                <a:solidFill>
                  <a:srgbClr val="2f1311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00:09:22Z</dcterms:created>
  <dc:creator>Suzanne M. Shirley</dc:creator>
  <dc:description/>
  <dc:language>en-US</dc:language>
  <cp:lastModifiedBy>Local User</cp:lastModifiedBy>
  <dcterms:modified xsi:type="dcterms:W3CDTF">2009-09-14T18:00:03Z</dcterms:modified>
  <cp:revision>6</cp:revision>
  <dc:subject/>
  <dc:title>El Pretérito de los Verbos - AVSR</dc:title>
</cp:coreProperties>
</file>